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CFD-F98E-40EA-9160-73C38D5F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603-5A3E-4F66-B07C-12D9A58D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87E-CF1D-458B-B3D5-F0708966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C82-E6B0-4EC2-BEFB-80B7183F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E70-0661-4171-B9BD-242E2B2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0D9-7831-4C92-983D-FB3ED23E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DD2-04D1-45D8-A80B-90791EF4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8E4-E9C2-48CC-870B-64CC5EF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5FD-21C5-41F8-B8BC-4873D89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FA8-A2AF-4020-B3DD-C122EE42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DDC-CCF5-4D02-AF91-20E1650F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76F-9DB4-45F4-958F-BD33CFA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EFB6-7651-45A5-BE9A-C5BABA55B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6.xml"/><Relationship Id="rId20" Type="http://schemas.openxmlformats.org/officeDocument/2006/relationships/slide" Target="slide11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7.xml"/><Relationship Id="rId26" Type="http://schemas.openxmlformats.org/officeDocument/2006/relationships/slide" Target="slide12.xml"/><Relationship Id="rId27" Type="http://schemas.openxmlformats.org/officeDocument/2006/relationships/slide" Target="slide17.xml"/><Relationship Id="rId28" Type="http://schemas.openxmlformats.org/officeDocument/2006/relationships/slide" Target="slide22.xml"/><Relationship Id="rId29" Type="http://schemas.openxmlformats.org/officeDocument/2006/relationships/slide" Target="slide27.xml"/><Relationship Id="rId30" Type="http://schemas.openxmlformats.org/officeDocument/2006/relationships/slide" Target="slide27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keletal Jeop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Histo</a:t>
            </a: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2" action="ppaction://hlinksldjump"/>
              </a:rPr>
              <a:t>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where bone cell i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Histo</a:t>
            </a: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2" action="ppaction://hlinksldjump"/>
              </a:rPr>
              <a:t>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s the connect different bone cells to facilitate transport of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 5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ic structures (beams) that make spongy bone better at handling multidirection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in metaphysis where bone lengthening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for growth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dult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arfism can be caused by low levels of HGH production before puberty by what g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tissue would you find in a 14 year old’s growth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Growth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name for 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ngthe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o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i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hing that develops in a bone after a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ir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“bulge” that forms in a bone after it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85800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  <a:gridCol w="1486080"/>
                <a:gridCol w="1485720"/>
                <a:gridCol w="1371600"/>
                <a:gridCol w="160020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c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392c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ir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bone remodel for after a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bone tissue is first laid in the weeks following a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ir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2 hormones would you give someone who is trying to build back b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loss of bone density that happens with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ing menisci at the knee increases the chance of developing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hormone released by thyroid hormone as a result of hypercalcemia (too much calc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lcitonin on kidney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c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PTH on osteoclast activity and intestine absorption of 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39116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hat contains red marrow (type of b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-2438280"/>
            <a:ext cx="5410080" cy="8686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43000" y="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4382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most layer that covers long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hat contains oste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hat contains osteoblasts and osteoc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Layers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f tissue what fills up medullary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Histo</a:t>
            </a: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2" action="ppaction://hlinksldjump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l in middle of osteon that contains blood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1" action="ppaction://hlinksldjump"/>
              </a:rPr>
              <a:t>Histo</a:t>
            </a:r>
            <a:r>
              <a:rPr b="0" lang="en-US" sz="4400" spc="-1" strike="noStrike" u="sng">
                <a:solidFill>
                  <a:srgbClr val="99392c"/>
                </a:solidFill>
                <a:uFillTx/>
                <a:latin typeface="Arial"/>
                <a:hlinkClick r:id="rId2" action="ppaction://hlinksldjump"/>
              </a:rPr>
              <a:t>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ure bone cell found in ost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7:34:37Z</dcterms:created>
  <dc:creator>Ignacio/Jayo</dc:creator>
  <dc:description/>
  <dc:language>en-US</dc:language>
  <cp:lastModifiedBy>jayoig</cp:lastModifiedBy>
  <dcterms:modified xsi:type="dcterms:W3CDTF">2009-11-17T17:43:59Z</dcterms:modified>
  <cp:revision>10</cp:revision>
  <dc:subject/>
  <dc:title>Skeletal Jeopardy</dc:title>
</cp:coreProperties>
</file>